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466A-8A97-44F0-ABA3-1B1CF01678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6BDD-AD48-4E49-B722-7115F7B6079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D89-2599-4811-A639-B6AAC0A74D8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3669-63B0-4FED-A356-C1C1450DDC9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13CD-989C-4E07-AC82-143B585928A7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1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ADB2-3742-46A3-80F1-B1B9446EB7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E924-A113-476A-8875-0B4C41F2B80F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8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269-6FE6-4DEE-B5AE-50551C62228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9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7A1-EDB7-48C8-A6F1-318F3E7385A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8B89-9822-4E87-93AE-945C86A5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11C-A338-4D81-9496-DEBB408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956-EE66-4534-BD20-072138FC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D09-7D30-4C40-B4AB-CC34464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13CC-091B-48F9-BAF6-520778C9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076-D841-4155-A6B5-45B9F731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6DF1-476C-4652-AD92-F59AD44C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B6FC-DE80-4E6C-918A-C9FFB400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A550-7303-40C0-A3CC-55A695E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BFD-A676-42F6-BE2D-B45FEC38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7021-41E3-434E-B651-44B5CD1E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B1D7-5448-461E-8DFA-FF1F064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B327A-813B-4095-BAB7-65C0F9C0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DF111-1849-4941-A824-CBA9393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9C29A-B316-42A4-8D99-11B9CCD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009D1-8F68-450E-B204-CFA2435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C7310-302E-446E-9564-5405D0E6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B9B20-F1E5-4487-AE90-5602AC0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F588B-026C-40E4-846B-25BBEE00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CEB4E-25F9-44D1-89CC-F61CCD2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93429-9D8A-4D9B-B3AA-A112A27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DA9B7-8B8B-48EC-9E80-F0A18E1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D5D7B-1A1F-4223-A0E1-C8E89374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E22E0-A9D8-4709-9F52-D9D8A6AF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AE4FE-8BCC-4684-9DC0-1C822416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B357C-39AA-4379-B399-8688CB38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CAF6E-D05F-4098-B4FA-A8E9AC0F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9B45D-36DA-4A56-8A42-1784FFBA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DD5DE-16EB-4C9A-8035-838C3F3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7DE46F-EFD3-4843-87A3-F74DB19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B7441-A75E-4977-BAD8-74D7325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E775E-44B9-49F6-B29B-35D907FB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67692-0BB5-47D9-9E1E-9A18D46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7DCB0-C2A5-4E4F-A73B-AB2C256A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C1006-85AB-4B53-9168-E51CE395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42D28-9BB8-4B55-BAA6-E5A911A0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820C-7D68-40F4-9D6C-162FB6C1F0F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4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5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7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99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0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0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D641-3F4C-4FA1-B6FA-E221F818D61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17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2DB-D30F-4F61-90BB-221176CDA79D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A26D-D552-4CA5-8579-13A2C15B5CA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9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9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235-6167-420E-B7A0-A4F2638B423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12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16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21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22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67AF-B84D-425D-8926-916406ACC9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5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8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79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7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CE05-CAA4-4B86-953A-8B8A2FC1F38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D6EA-E2A0-45EA-A6F0-9B819E7A129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96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8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9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00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5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06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106F-86AE-4E16-9DD8-7389871FB31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5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2524-E209-4EA5-BD71-B5CD0AEACD2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76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9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0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5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86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E964-4F79-4ACB-8BF2-87B6A9FF27BB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3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39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2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3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4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1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9C15-5140-479F-A9C5-E849887D1DB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893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65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3152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HY강B"/>
                <a:ea typeface="HY강B"/>
              </a:rPr>
              <a:t>1</a:t>
            </a:r>
            <a:r>
              <a:rPr b="0" lang="ko-KR" sz="41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</a:t>
            </a:r>
            <a:endParaRPr b="0" lang="en-US" sz="41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HY강B"/>
                <a:ea typeface="HY강B"/>
              </a:rPr>
              <a:t>2</a:t>
            </a:r>
            <a:r>
              <a:rPr b="1" lang="ko-KR" sz="4800" spc="-1" strike="noStrike">
                <a:solidFill>
                  <a:srgbClr val="ffff00"/>
                </a:solidFill>
                <a:latin typeface="HY강B"/>
                <a:ea typeface="HY강B"/>
              </a:rPr>
              <a:t>장 노화의 과정과 결과</a:t>
            </a:r>
            <a:endParaRPr b="0" lang="en-US" sz="48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그룹 1"/>
          <p:cNvGrpSpPr/>
          <p:nvPr/>
        </p:nvGrpSpPr>
        <p:grpSpPr>
          <a:xfrm>
            <a:off x="285840" y="142920"/>
            <a:ext cx="8678880" cy="5857920"/>
            <a:chOff x="285840" y="142920"/>
            <a:chExt cx="8678880" cy="5857920"/>
          </a:xfrm>
        </p:grpSpPr>
        <p:sp>
          <p:nvSpPr>
            <p:cNvPr id="789" name="AutoShape 2"/>
            <p:cNvSpPr/>
            <p:nvPr/>
          </p:nvSpPr>
          <p:spPr>
            <a:xfrm>
              <a:off x="285840" y="1008000"/>
              <a:ext cx="8644320" cy="4992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0" name="AutoShape 4"/>
            <p:cNvSpPr/>
            <p:nvPr/>
          </p:nvSpPr>
          <p:spPr>
            <a:xfrm>
              <a:off x="285840" y="142920"/>
              <a:ext cx="55720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생물적 노화의 신화와 사실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1" name="Text Box 6"/>
            <p:cNvSpPr/>
            <p:nvPr/>
          </p:nvSpPr>
          <p:spPr>
            <a:xfrm>
              <a:off x="500040" y="1106280"/>
              <a:ext cx="8464680" cy="486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는 신체질병으로 가득한 시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 가능성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병률이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84.0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 이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이전에 발병한 경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88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가 자립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상생활 동작능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ADL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매력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보고 듣지도 못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냄새 나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이빨도 없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화로 인한 외모변화가 사실이지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화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경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청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틀니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철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생관리 등으로 보완이 가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심장발작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골절상의 위험이 있으므로 스스로 힘든 일 중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기능 저하는 성인 초기부터 진행되며 치료와 운동으로 극복가능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lvl="1" marL="3589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들 질환은 노년기만의 특성은 아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1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에 관심도 없고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성생활도 불가능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기능 저하는 사실이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적 노화보다는 성적 파트너 유무가 더 중요하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기부전치료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전 성적 유희 등으로 성생활 유지 가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그룹 7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79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심리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95" name="그룹 11"/>
            <p:cNvGrpSpPr/>
            <p:nvPr/>
          </p:nvGrpSpPr>
          <p:grpSpPr>
            <a:xfrm>
              <a:off x="142560" y="928440"/>
              <a:ext cx="8929800" cy="5429520"/>
              <a:chOff x="142560" y="928440"/>
              <a:chExt cx="8929800" cy="5429520"/>
            </a:xfrm>
          </p:grpSpPr>
          <p:sp>
            <p:nvSpPr>
              <p:cNvPr id="796" name="AutoShape 2"/>
              <p:cNvSpPr/>
              <p:nvPr/>
            </p:nvSpPr>
            <p:spPr>
              <a:xfrm>
                <a:off x="142560" y="1643400"/>
                <a:ext cx="8929800" cy="4714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7" name="AutoShape 4"/>
              <p:cNvSpPr/>
              <p:nvPr/>
            </p:nvSpPr>
            <p:spPr>
              <a:xfrm>
                <a:off x="213840" y="92844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개념과 특성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98" name="Text Box 6"/>
              <p:cNvSpPr/>
              <p:nvPr/>
            </p:nvSpPr>
            <p:spPr>
              <a:xfrm>
                <a:off x="178920" y="1731600"/>
                <a:ext cx="8822160" cy="44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 및 정신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등의 심리내적 측면과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외적 측면과의 상호작용에 있어서의 퇴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 및 성숙을 동시에 내포하는 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조절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영역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운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 및 정서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적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아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건강 및 장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특성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와의 연관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1063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와 관련된 심리기능은 연령증가와 함께 현저하게 퇴행적 발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험과 관련된 심리기능은 유지 혹은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 생활에서는 정신기능의 쇠퇴가 의미 있는 정도로 나타나지 않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가 사회적 기능을 약화 또는 촉진할 수 있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 역시 심리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87280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노화에 긍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정의 영향을 미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그룹 7"/>
          <p:cNvGrpSpPr/>
          <p:nvPr/>
        </p:nvGrpSpPr>
        <p:grpSpPr>
          <a:xfrm>
            <a:off x="41400" y="285840"/>
            <a:ext cx="8959680" cy="6362640"/>
            <a:chOff x="41400" y="285840"/>
            <a:chExt cx="8959680" cy="6362640"/>
          </a:xfrm>
        </p:grpSpPr>
        <p:pic>
          <p:nvPicPr>
            <p:cNvPr id="800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1785960" y="5214960"/>
              <a:ext cx="17938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2" descr="C:\DOCUME~1\USER\LOCALS~1\Temp\UNI00000dfc7a1c.gif"/>
            <p:cNvPicPr/>
            <p:nvPr/>
          </p:nvPicPr>
          <p:blipFill>
            <a:blip r:embed="rId2"/>
            <a:stretch/>
          </p:blipFill>
          <p:spPr>
            <a:xfrm>
              <a:off x="41400" y="5357880"/>
              <a:ext cx="2315880" cy="12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2" name="그룹 1"/>
            <p:cNvGrpSpPr/>
            <p:nvPr/>
          </p:nvGrpSpPr>
          <p:grpSpPr>
            <a:xfrm>
              <a:off x="285840" y="285840"/>
              <a:ext cx="8715240" cy="5072040"/>
              <a:chOff x="285840" y="285840"/>
              <a:chExt cx="8715240" cy="5072040"/>
            </a:xfrm>
          </p:grpSpPr>
          <p:sp>
            <p:nvSpPr>
              <p:cNvPr id="803" name="AutoShape 4"/>
              <p:cNvSpPr/>
              <p:nvPr/>
            </p:nvSpPr>
            <p:spPr>
              <a:xfrm>
                <a:off x="285840" y="285840"/>
                <a:ext cx="5089320" cy="509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심리적 노화의 주요이론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4" name="AutoShape 2"/>
              <p:cNvSpPr/>
              <p:nvPr/>
            </p:nvSpPr>
            <p:spPr>
              <a:xfrm>
                <a:off x="357120" y="983520"/>
                <a:ext cx="8501040" cy="4374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5" name="Text Box 6"/>
              <p:cNvSpPr/>
              <p:nvPr/>
            </p:nvSpPr>
            <p:spPr>
              <a:xfrm>
                <a:off x="496800" y="1171440"/>
                <a:ext cx="8504280" cy="404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지이론  등 다양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2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과업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Harvighurst, Peck, Clark &amp; Anderson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발달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Eriks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심리사회적 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지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감소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행동유전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위기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Miller) 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체감 유지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tchley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01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초월이론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그룹 1"/>
          <p:cNvGrpSpPr/>
          <p:nvPr/>
        </p:nvGrpSpPr>
        <p:grpSpPr>
          <a:xfrm>
            <a:off x="142920" y="214200"/>
            <a:ext cx="8858160" cy="6000840"/>
            <a:chOff x="142920" y="214200"/>
            <a:chExt cx="8858160" cy="6000840"/>
          </a:xfrm>
        </p:grpSpPr>
        <p:grpSp>
          <p:nvGrpSpPr>
            <p:cNvPr id="807" name="그룹 6"/>
            <p:cNvGrpSpPr/>
            <p:nvPr/>
          </p:nvGrpSpPr>
          <p:grpSpPr>
            <a:xfrm>
              <a:off x="142920" y="1785600"/>
              <a:ext cx="8858160" cy="4429440"/>
              <a:chOff x="142920" y="1785600"/>
              <a:chExt cx="8858160" cy="4429440"/>
            </a:xfrm>
          </p:grpSpPr>
          <p:sp>
            <p:nvSpPr>
              <p:cNvPr id="808" name="AutoShape 2"/>
              <p:cNvSpPr/>
              <p:nvPr/>
            </p:nvSpPr>
            <p:spPr>
              <a:xfrm>
                <a:off x="142920" y="1785600"/>
                <a:ext cx="8820360" cy="4429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09" name="Text Box 25"/>
              <p:cNvSpPr/>
              <p:nvPr/>
            </p:nvSpPr>
            <p:spPr>
              <a:xfrm>
                <a:off x="214200" y="1904400"/>
                <a:ext cx="8786880" cy="427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4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는 교정해도 정상시력 회복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청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청각체계 및 중추신경계의 반응능력 감소로 청각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음의 고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변별력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후기에는 보청기 등 사용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미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저하 시작되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까지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크게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후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감소 시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/4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가 후각 문제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촉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통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촉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통각은 연령과 큰 관련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경자극전달세포 감소 또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심성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사숙고 성향의 증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운동반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억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보처리 등의 반응속도 저하→ 안전사고 위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수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-8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5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급감하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-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으로 줄어들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면장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기각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야전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장애를 경험하는 경우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많아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숙면시간이 줄어들어 낮은 피로회복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낮동안의 일상생활 지장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10" name="그룹 30"/>
            <p:cNvGrpSpPr/>
            <p:nvPr/>
          </p:nvGrpSpPr>
          <p:grpSpPr>
            <a:xfrm>
              <a:off x="181080" y="214200"/>
              <a:ext cx="8748720" cy="1071360"/>
              <a:chOff x="181080" y="214200"/>
              <a:chExt cx="8748720" cy="1071360"/>
            </a:xfrm>
          </p:grpSpPr>
          <p:sp>
            <p:nvSpPr>
              <p:cNvPr id="811" name="AutoShape 2"/>
              <p:cNvSpPr/>
              <p:nvPr/>
            </p:nvSpPr>
            <p:spPr>
              <a:xfrm>
                <a:off x="181080" y="642600"/>
                <a:ext cx="8677440" cy="642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2" name="AutoShape 7"/>
              <p:cNvSpPr/>
              <p:nvPr/>
            </p:nvSpPr>
            <p:spPr>
              <a:xfrm>
                <a:off x="285480" y="214200"/>
                <a:ext cx="38577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심리적 노화의 양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13" name="Text Box 25"/>
              <p:cNvSpPr/>
              <p:nvPr/>
            </p:nvSpPr>
            <p:spPr>
              <a:xfrm>
                <a:off x="366480" y="814320"/>
                <a:ext cx="856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노화를 감각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지 및 정신기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격변화로 구분 설명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14" name="AutoShape 29"/>
            <p:cNvSpPr/>
            <p:nvPr/>
          </p:nvSpPr>
          <p:spPr>
            <a:xfrm>
              <a:off x="214200" y="128556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감각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그룹 1"/>
          <p:cNvGrpSpPr/>
          <p:nvPr/>
        </p:nvGrpSpPr>
        <p:grpSpPr>
          <a:xfrm>
            <a:off x="108000" y="142920"/>
            <a:ext cx="8928000" cy="6278400"/>
            <a:chOff x="108000" y="142920"/>
            <a:chExt cx="8928000" cy="6278400"/>
          </a:xfrm>
        </p:grpSpPr>
        <p:sp>
          <p:nvSpPr>
            <p:cNvPr id="816" name="AutoShape 2"/>
            <p:cNvSpPr/>
            <p:nvPr/>
          </p:nvSpPr>
          <p:spPr>
            <a:xfrm>
              <a:off x="108000" y="714240"/>
              <a:ext cx="8892720" cy="5643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Text Box 25"/>
            <p:cNvSpPr/>
            <p:nvPr/>
          </p:nvSpPr>
          <p:spPr>
            <a:xfrm>
              <a:off x="323640" y="765000"/>
              <a:ext cx="8712360" cy="56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뇌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무게와 부피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2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394g</a:t>
              </a:r>
              <a:r>
                <a:rPr b="0" lang="en-US" sz="1800" spc="-1" strike="noStrike">
                  <a:solidFill>
                    <a:srgbClr val="1d528d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9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,161g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뉴런 퇴화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반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신경섬유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농축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으로 뇌기능 저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별한 뇌병변 없으면 적정 인지기능 수준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인지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년 전부터 지적 능력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Riegel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사망 직전 종말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terminal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drop)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현상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Kleemeier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8-2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점진적 쇠퇴가 일반적이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유동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7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후 급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지만 결정성 지능은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까지 꾸준히 증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따라서 지능과 연령이 부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라고 단정하기 어려우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생활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집단효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cohort effect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검사시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건강상태 등에 따라 차이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창의성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3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정점 이후 감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6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대 이후에도 창의성 발휘 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단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5-10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근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1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며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최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한번도 회상해보지 않은 과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으로 구분되며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단기 및 최근 기억이 약화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학습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충분한 학습시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구체적인 과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과에 대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즉각적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feedback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으로 보완이 가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으로 감소되지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경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능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직업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동년배효과 등이 복합적으로 작용함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치매는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에서 상세 설명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반응속도 저하 등을 경험을 통해 얻은 지혜로 보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ts val="99"/>
                </a:lnSpc>
                <a:spcBef>
                  <a:spcPts val="24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영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에 영성이 더욱 깊어지나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활동 참여도 감소로 감소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AutoShape 29"/>
            <p:cNvSpPr/>
            <p:nvPr/>
          </p:nvSpPr>
          <p:spPr>
            <a:xfrm>
              <a:off x="214200" y="142920"/>
              <a:ext cx="857412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인지 및 정신기능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그룹 1"/>
          <p:cNvGrpSpPr/>
          <p:nvPr/>
        </p:nvGrpSpPr>
        <p:grpSpPr>
          <a:xfrm>
            <a:off x="109440" y="249120"/>
            <a:ext cx="8820360" cy="6194520"/>
            <a:chOff x="109440" y="249120"/>
            <a:chExt cx="8820360" cy="6194520"/>
          </a:xfrm>
        </p:grpSpPr>
        <p:grpSp>
          <p:nvGrpSpPr>
            <p:cNvPr id="820" name="그룹 6"/>
            <p:cNvGrpSpPr/>
            <p:nvPr/>
          </p:nvGrpSpPr>
          <p:grpSpPr>
            <a:xfrm>
              <a:off x="109440" y="891720"/>
              <a:ext cx="8820360" cy="5551920"/>
              <a:chOff x="109440" y="891720"/>
              <a:chExt cx="8820360" cy="5551920"/>
            </a:xfrm>
          </p:grpSpPr>
          <p:sp>
            <p:nvSpPr>
              <p:cNvPr id="821" name="AutoShape 2"/>
              <p:cNvSpPr/>
              <p:nvPr/>
            </p:nvSpPr>
            <p:spPr>
              <a:xfrm>
                <a:off x="109440" y="891720"/>
                <a:ext cx="8820360" cy="5551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22" name="Text Box 25"/>
              <p:cNvSpPr/>
              <p:nvPr/>
            </p:nvSpPr>
            <p:spPr>
              <a:xfrm>
                <a:off x="356760" y="1034640"/>
                <a:ext cx="8501400" cy="538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체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위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로 자아기반 와해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퇴 후 다른 역할로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감정표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감정표현능력 저하되나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문화요인이 더 큰 영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아통합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Erikson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에 대해 만족하고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을 인정하고 기다림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절망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삶을 후회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불만족하며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 수용 못하고 우울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타인 원망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죽음에 대한 태도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아통합 성취 정도에 따라 차이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권장도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격변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Kogan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변화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(Ruth)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와 관련된 주장이 상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년기 성격변화의 특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내향성 및 수동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조심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직성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우울성향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생에 대한 회상의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근한 사물에 대한 애착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역할 지각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존성 증가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간 전망의 변화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을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남기려는 경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1188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Richard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의 노년기 성격유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성숙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방어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은둔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분노형</a:t>
                </a:r>
                <a:r>
                  <a:rPr b="0" lang="en-US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학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35892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3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23" name="AutoShape 29"/>
            <p:cNvSpPr/>
            <p:nvPr/>
          </p:nvSpPr>
          <p:spPr>
            <a:xfrm>
              <a:off x="214200" y="249120"/>
              <a:ext cx="857304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2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HY강B"/>
                </a:rPr>
                <a:t>정서 및 성격변화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C:\DOCUME~1\USER\LOCALS~1\Temp\UNI0000080471b7.gif"/>
          <p:cNvPicPr/>
          <p:nvPr/>
        </p:nvPicPr>
        <p:blipFill>
          <a:blip r:embed="rId1"/>
          <a:stretch/>
        </p:blipFill>
        <p:spPr>
          <a:xfrm>
            <a:off x="7880400" y="0"/>
            <a:ext cx="1263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25" name="그룹 1"/>
          <p:cNvGrpSpPr/>
          <p:nvPr/>
        </p:nvGrpSpPr>
        <p:grpSpPr>
          <a:xfrm>
            <a:off x="285840" y="285840"/>
            <a:ext cx="8647200" cy="6000840"/>
            <a:chOff x="285840" y="285840"/>
            <a:chExt cx="8647200" cy="6000840"/>
          </a:xfrm>
        </p:grpSpPr>
        <p:sp>
          <p:nvSpPr>
            <p:cNvPr id="826" name="AutoShape 4"/>
            <p:cNvSpPr/>
            <p:nvPr/>
          </p:nvSpPr>
          <p:spPr>
            <a:xfrm>
              <a:off x="285840" y="285840"/>
              <a:ext cx="508788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심리적 노화의 신화와 사실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7" name="AutoShape 2"/>
            <p:cNvSpPr/>
            <p:nvPr/>
          </p:nvSpPr>
          <p:spPr>
            <a:xfrm>
              <a:off x="285840" y="983520"/>
              <a:ext cx="8643960" cy="530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8" name="Text Box 6"/>
            <p:cNvSpPr/>
            <p:nvPr/>
          </p:nvSpPr>
          <p:spPr>
            <a:xfrm>
              <a:off x="428400" y="1146960"/>
              <a:ext cx="8504640" cy="50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하루 종일 잠만 잔다→ 수면부족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낮시간의 지루함 해소 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융통성 없고 고집스러움 → 더 넓게 보고 사고함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혜의 표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평화롭고 평안한 시기 → 관계위축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지위상실 등의 스트레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4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억저하와 치매 → 단기기억상실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의 치매 유병률 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10.33%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학습이 어렵고 지능저하 → 구체적이고 흥미로운 과제와 충분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시간과 동기를 부여하면 학습능력 상승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결정성 지능은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문제해결 능력저하 → 단순히 노화에 의한 능력 저하는 아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젊은이보다 죽음을 두려워함 → 대부분 죽음을 편안히 수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의존적임 → 대부분의 노인들은 자립적 생활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400"/>
                </a:spcBef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신화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: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 → 종교참여빈도 높아지고 영성이 깊어지는 것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반적일지라도</a:t>
              </a:r>
              <a:r>
                <a:rPr b="0" lang="en-US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종교에 몰입하지는 않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그룹 13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grpSp>
          <p:nvGrpSpPr>
            <p:cNvPr id="830" name="그룹 20"/>
            <p:cNvGrpSpPr/>
            <p:nvPr/>
          </p:nvGrpSpPr>
          <p:grpSpPr>
            <a:xfrm>
              <a:off x="0" y="0"/>
              <a:ext cx="9144000" cy="3857760"/>
              <a:chOff x="0" y="0"/>
              <a:chExt cx="9144000" cy="3857760"/>
            </a:xfrm>
          </p:grpSpPr>
          <p:sp>
            <p:nvSpPr>
              <p:cNvPr id="831" name="AutoShape 2"/>
              <p:cNvSpPr/>
              <p:nvPr/>
            </p:nvSpPr>
            <p:spPr>
              <a:xfrm>
                <a:off x="285480" y="1643040"/>
                <a:ext cx="8715600" cy="2214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32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사회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15"/>
            <p:cNvGrpSpPr/>
            <p:nvPr/>
          </p:nvGrpSpPr>
          <p:grpSpPr>
            <a:xfrm>
              <a:off x="285480" y="1145880"/>
              <a:ext cx="8715600" cy="5069160"/>
              <a:chOff x="285480" y="1145880"/>
              <a:chExt cx="8715600" cy="5069160"/>
            </a:xfrm>
          </p:grpSpPr>
          <p:sp>
            <p:nvSpPr>
              <p:cNvPr id="835" name="AutoShape 2"/>
              <p:cNvSpPr/>
              <p:nvPr/>
            </p:nvSpPr>
            <p:spPr>
              <a:xfrm>
                <a:off x="285480" y="4643280"/>
                <a:ext cx="8715600" cy="1571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836" name="그룹 10"/>
              <p:cNvGrpSpPr/>
              <p:nvPr/>
            </p:nvGrpSpPr>
            <p:grpSpPr>
              <a:xfrm>
                <a:off x="356760" y="1145880"/>
                <a:ext cx="8644320" cy="2676960"/>
                <a:chOff x="356760" y="1145880"/>
                <a:chExt cx="8644320" cy="2676960"/>
              </a:xfrm>
            </p:grpSpPr>
            <p:sp>
              <p:nvSpPr>
                <p:cNvPr id="837" name="AutoShape 4"/>
                <p:cNvSpPr/>
                <p:nvPr/>
              </p:nvSpPr>
              <p:spPr>
                <a:xfrm>
                  <a:off x="356760" y="1145880"/>
                  <a:ext cx="4643640" cy="500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개념과 특성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6"/>
                <p:cNvSpPr/>
                <p:nvPr/>
              </p:nvSpPr>
              <p:spPr>
                <a:xfrm>
                  <a:off x="356760" y="1785600"/>
                  <a:ext cx="8644320" cy="203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년기로의 전환과 함께 나타나는 개인수준의 사회적 상황변화 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관계망과 상호작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규범과 사회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지위와 역할의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영역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개인수준의 사회적 상황변화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가 노인에 미치는 영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+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인구로 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해 나타나는 사회적 변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일반적으로 개인 수준의 사회적 상황변화라는 협의의 개념을 중심으로 논의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그룹 10"/>
              <p:cNvGrpSpPr/>
              <p:nvPr/>
            </p:nvGrpSpPr>
            <p:grpSpPr>
              <a:xfrm>
                <a:off x="356760" y="4143240"/>
                <a:ext cx="8644320" cy="2031120"/>
                <a:chOff x="356760" y="4143240"/>
                <a:chExt cx="8644320" cy="2031120"/>
              </a:xfrm>
            </p:grpSpPr>
            <p:sp>
              <p:nvSpPr>
                <p:cNvPr id="840" name="AutoShape 4"/>
                <p:cNvSpPr/>
                <p:nvPr/>
              </p:nvSpPr>
              <p:spPr>
                <a:xfrm>
                  <a:off x="356760" y="4143240"/>
                  <a:ext cx="4643640" cy="499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2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사회적 노화의 주요 이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6"/>
                <p:cNvSpPr/>
                <p:nvPr/>
              </p:nvSpPr>
              <p:spPr>
                <a:xfrm>
                  <a:off x="356760" y="4754160"/>
                  <a:ext cx="8644320" cy="14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활동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분리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지속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역할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스트레스 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생활과정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현대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구조지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낙인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사회와해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하위문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연령계층화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세계체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정치경제이론</a:t>
                  </a: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교환이론 등 매우 다양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d528d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표 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2-4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참조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그룹 1"/>
          <p:cNvGrpSpPr/>
          <p:nvPr/>
        </p:nvGrpSpPr>
        <p:grpSpPr>
          <a:xfrm>
            <a:off x="108000" y="142920"/>
            <a:ext cx="9288360" cy="6366960"/>
            <a:chOff x="108000" y="142920"/>
            <a:chExt cx="9288360" cy="6366960"/>
          </a:xfrm>
        </p:grpSpPr>
        <p:sp>
          <p:nvSpPr>
            <p:cNvPr id="843" name="AutoShape 4"/>
            <p:cNvSpPr/>
            <p:nvPr/>
          </p:nvSpPr>
          <p:spPr>
            <a:xfrm>
              <a:off x="285480" y="142920"/>
              <a:ext cx="44290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사회적 노화의 양상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4" name="AutoShape 2"/>
            <p:cNvSpPr/>
            <p:nvPr/>
          </p:nvSpPr>
          <p:spPr>
            <a:xfrm>
              <a:off x="214560" y="692640"/>
              <a:ext cx="8819640" cy="702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5" name="Text Box 6"/>
            <p:cNvSpPr/>
            <p:nvPr/>
          </p:nvSpPr>
          <p:spPr>
            <a:xfrm>
              <a:off x="250560" y="660240"/>
              <a:ext cx="914580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관계망과 상호작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규범과 사회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위와 역할변화로 구분 설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부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서 상세히 논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46" name="그룹 6"/>
            <p:cNvGrpSpPr/>
            <p:nvPr/>
          </p:nvGrpSpPr>
          <p:grpSpPr>
            <a:xfrm>
              <a:off x="108000" y="1412640"/>
              <a:ext cx="8893080" cy="5097240"/>
              <a:chOff x="108000" y="1412640"/>
              <a:chExt cx="8893080" cy="5097240"/>
            </a:xfrm>
          </p:grpSpPr>
          <p:grpSp>
            <p:nvGrpSpPr>
              <p:cNvPr id="847" name="그룹 6"/>
              <p:cNvGrpSpPr/>
              <p:nvPr/>
            </p:nvGrpSpPr>
            <p:grpSpPr>
              <a:xfrm>
                <a:off x="108000" y="1916640"/>
                <a:ext cx="8893080" cy="4593240"/>
                <a:chOff x="108000" y="1916640"/>
                <a:chExt cx="8893080" cy="4593240"/>
              </a:xfrm>
            </p:grpSpPr>
            <p:sp>
              <p:nvSpPr>
                <p:cNvPr id="848" name="AutoShape 2"/>
                <p:cNvSpPr/>
                <p:nvPr/>
              </p:nvSpPr>
              <p:spPr>
                <a:xfrm>
                  <a:off x="108000" y="1916640"/>
                  <a:ext cx="8819640" cy="4529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49" name="Text Box 25"/>
                <p:cNvSpPr/>
                <p:nvPr/>
              </p:nvSpPr>
              <p:spPr>
                <a:xfrm>
                  <a:off x="357120" y="1925280"/>
                  <a:ext cx="8643960" cy="45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친구의 상실 등으로 관계망 축소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1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차 집단 그 중에서도 가족이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가 사회적 관계의 중심이 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수명연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 양육기간 감소로 노후 여가시간과 노부부시기 연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부관계의 결정요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제 자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활범위조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양성적 역할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배우자 상실의 영향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우울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통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죄의식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활동 관심저하 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황혼이혼과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 재혼의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부모</a:t>
                  </a:r>
                  <a:r>
                    <a:rPr b="0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자녀관계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별거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연락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접촉빈도 감소 등의 양적 변화와 아울러 정서적 유대관계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추세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74578"/>
                    </a:buClr>
                    <a:buFont typeface="Wingdings" charset="2"/>
                    <a:buChar char="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empty nest period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를 잘 극복하기 위해서 건강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소득유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자녀와 상호지원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 lvl="1" marL="216000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 형성이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AutoShape 29"/>
              <p:cNvSpPr/>
              <p:nvPr/>
            </p:nvSpPr>
            <p:spPr>
              <a:xfrm>
                <a:off x="142920" y="14126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사회적 관계망과의 상호작용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1" name="그룹 9"/>
          <p:cNvGrpSpPr/>
          <p:nvPr/>
        </p:nvGrpSpPr>
        <p:grpSpPr>
          <a:xfrm>
            <a:off x="142920" y="77760"/>
            <a:ext cx="8891640" cy="6280200"/>
            <a:chOff x="142920" y="77760"/>
            <a:chExt cx="8891640" cy="6280200"/>
          </a:xfrm>
        </p:grpSpPr>
        <p:grpSp>
          <p:nvGrpSpPr>
            <p:cNvPr id="852" name="그룹 6"/>
            <p:cNvGrpSpPr/>
            <p:nvPr/>
          </p:nvGrpSpPr>
          <p:grpSpPr>
            <a:xfrm>
              <a:off x="214200" y="77760"/>
              <a:ext cx="8820360" cy="2637360"/>
              <a:chOff x="214200" y="77760"/>
              <a:chExt cx="8820360" cy="2637360"/>
            </a:xfrm>
          </p:grpSpPr>
          <p:sp>
            <p:nvSpPr>
              <p:cNvPr id="853" name="AutoShape 2"/>
              <p:cNvSpPr/>
              <p:nvPr/>
            </p:nvSpPr>
            <p:spPr>
              <a:xfrm>
                <a:off x="214200" y="142920"/>
                <a:ext cx="8820360" cy="2572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54" name="Text Box 25"/>
              <p:cNvSpPr/>
              <p:nvPr/>
            </p:nvSpPr>
            <p:spPr>
              <a:xfrm>
                <a:off x="356760" y="77760"/>
                <a:ext cx="8644320" cy="26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손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전수와 손자녀 교육 기능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온화하고 관대해지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원거리형과 재미추구형 조손관계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친구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등으로 기존 사회관계의 축소에 따라 친구관계가 주요 자아지지 기반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 수 줄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친구 사귀기 어렵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웃과 중복되는 경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lvl="1" marL="216000"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관계 유지 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일지역 장기 거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55" name="그룹 11"/>
            <p:cNvGrpSpPr/>
            <p:nvPr/>
          </p:nvGrpSpPr>
          <p:grpSpPr>
            <a:xfrm>
              <a:off x="142920" y="2675160"/>
              <a:ext cx="8891640" cy="3682800"/>
              <a:chOff x="142920" y="2675160"/>
              <a:chExt cx="8891640" cy="3682800"/>
            </a:xfrm>
          </p:grpSpPr>
          <p:grpSp>
            <p:nvGrpSpPr>
              <p:cNvPr id="856" name="그룹 6"/>
              <p:cNvGrpSpPr/>
              <p:nvPr/>
            </p:nvGrpSpPr>
            <p:grpSpPr>
              <a:xfrm>
                <a:off x="214200" y="3206880"/>
                <a:ext cx="8820360" cy="3151080"/>
                <a:chOff x="214200" y="3206880"/>
                <a:chExt cx="8820360" cy="3151080"/>
              </a:xfrm>
            </p:grpSpPr>
            <p:sp>
              <p:nvSpPr>
                <p:cNvPr id="857" name="AutoShape 2"/>
                <p:cNvSpPr/>
                <p:nvPr/>
              </p:nvSpPr>
              <p:spPr>
                <a:xfrm>
                  <a:off x="214200" y="3206880"/>
                  <a:ext cx="8820360" cy="3151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858" name="Text Box 25"/>
                <p:cNvSpPr/>
                <p:nvPr/>
              </p:nvSpPr>
              <p:spPr>
                <a:xfrm>
                  <a:off x="356760" y="3246120"/>
                  <a:ext cx="8644320" cy="30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상호작용을 통해 규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역할기대 등을 학습하고 사회생활에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필요한 기술을 발전시키는 사회적 학습과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는 젊은 층의 사회화에 더욱 주력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년기의 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age norm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에 대한 합의가 이루어지지 않고 있으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에 대한 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-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각이 혼재함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다만 사회에서의 분리보다는 활기찬 노화를 선호하는 방향으로 전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예비적 사회화 없이 노년기에 진입하므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후적응에 문제를 경험하고 사회적 소외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경험 가능성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들은 ‘나이값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(acting his age)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도 못하는 사람’으로 취급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비난과 차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받을 가능성이 높아짐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AutoShape 29"/>
              <p:cNvSpPr/>
              <p:nvPr/>
            </p:nvSpPr>
            <p:spPr>
              <a:xfrm>
                <a:off x="142920" y="267516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연령규범과 사회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669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1" name="그룹 45"/>
          <p:cNvGrpSpPr/>
          <p:nvPr/>
        </p:nvGrpSpPr>
        <p:grpSpPr>
          <a:xfrm>
            <a:off x="0" y="1211400"/>
            <a:ext cx="8842320" cy="5360760"/>
            <a:chOff x="0" y="1211400"/>
            <a:chExt cx="8842320" cy="5360760"/>
          </a:xfrm>
        </p:grpSpPr>
        <p:sp>
          <p:nvSpPr>
            <p:cNvPr id="672" name="Rectangle 42"/>
            <p:cNvSpPr/>
            <p:nvPr/>
          </p:nvSpPr>
          <p:spPr>
            <a:xfrm>
              <a:off x="6037200" y="6259680"/>
              <a:ext cx="16570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V="1">
              <a:off x="0" y="2928960"/>
              <a:ext cx="1000080" cy="10713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V="1">
              <a:off x="0" y="3974760"/>
              <a:ext cx="1357200" cy="457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Line 13"/>
            <p:cNvSpPr/>
            <p:nvPr/>
          </p:nvSpPr>
          <p:spPr>
            <a:xfrm>
              <a:off x="0" y="4000680"/>
              <a:ext cx="857160" cy="1935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Line 64"/>
            <p:cNvSpPr/>
            <p:nvPr/>
          </p:nvSpPr>
          <p:spPr>
            <a:xfrm>
              <a:off x="0" y="3994200"/>
              <a:ext cx="857160" cy="9349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Line 9"/>
            <p:cNvSpPr/>
            <p:nvPr/>
          </p:nvSpPr>
          <p:spPr>
            <a:xfrm flipV="1">
              <a:off x="0" y="2214720"/>
              <a:ext cx="928440" cy="163656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AutoShape 4"/>
            <p:cNvSpPr/>
            <p:nvPr/>
          </p:nvSpPr>
          <p:spPr>
            <a:xfrm>
              <a:off x="1622160" y="1824120"/>
              <a:ext cx="7199280" cy="6696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개념과 영역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79" name="Group 14"/>
            <p:cNvGrpSpPr/>
            <p:nvPr/>
          </p:nvGrpSpPr>
          <p:grpSpPr>
            <a:xfrm>
              <a:off x="642960" y="1843200"/>
              <a:ext cx="856800" cy="714600"/>
              <a:chOff x="642960" y="1843200"/>
              <a:chExt cx="856800" cy="714600"/>
            </a:xfrm>
          </p:grpSpPr>
          <p:sp>
            <p:nvSpPr>
              <p:cNvPr id="680" name="Oval 15"/>
              <p:cNvSpPr/>
              <p:nvPr/>
            </p:nvSpPr>
            <p:spPr>
              <a:xfrm>
                <a:off x="664200" y="1843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1" name="Oval 16"/>
              <p:cNvSpPr/>
              <p:nvPr/>
            </p:nvSpPr>
            <p:spPr>
              <a:xfrm>
                <a:off x="664200" y="184500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716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Text Box 18"/>
              <p:cNvSpPr/>
              <p:nvPr/>
            </p:nvSpPr>
            <p:spPr>
              <a:xfrm>
                <a:off x="642960" y="1849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4"/>
            <p:cNvGrpSpPr/>
            <p:nvPr/>
          </p:nvGrpSpPr>
          <p:grpSpPr>
            <a:xfrm>
              <a:off x="642960" y="2780280"/>
              <a:ext cx="856800" cy="714600"/>
              <a:chOff x="642960" y="2780280"/>
              <a:chExt cx="856800" cy="714600"/>
            </a:xfrm>
          </p:grpSpPr>
          <p:sp>
            <p:nvSpPr>
              <p:cNvPr id="685" name="Oval 15"/>
              <p:cNvSpPr/>
              <p:nvPr/>
            </p:nvSpPr>
            <p:spPr>
              <a:xfrm>
                <a:off x="664200" y="278028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6" name="Oval 16"/>
              <p:cNvSpPr/>
              <p:nvPr/>
            </p:nvSpPr>
            <p:spPr>
              <a:xfrm>
                <a:off x="664200" y="2782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8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424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8" name="Text Box 18"/>
              <p:cNvSpPr/>
              <p:nvPr/>
            </p:nvSpPr>
            <p:spPr>
              <a:xfrm>
                <a:off x="642960" y="278424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4"/>
            <p:cNvGrpSpPr/>
            <p:nvPr/>
          </p:nvGrpSpPr>
          <p:grpSpPr>
            <a:xfrm>
              <a:off x="642960" y="3718440"/>
              <a:ext cx="856800" cy="714600"/>
              <a:chOff x="642960" y="3718440"/>
              <a:chExt cx="856800" cy="714600"/>
            </a:xfrm>
          </p:grpSpPr>
          <p:sp>
            <p:nvSpPr>
              <p:cNvPr id="690" name="Oval 15"/>
              <p:cNvSpPr/>
              <p:nvPr/>
            </p:nvSpPr>
            <p:spPr>
              <a:xfrm>
                <a:off x="664200" y="3718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1" name="Oval 16"/>
              <p:cNvSpPr/>
              <p:nvPr/>
            </p:nvSpPr>
            <p:spPr>
              <a:xfrm>
                <a:off x="664200" y="3720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2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18"/>
              <p:cNvSpPr/>
              <p:nvPr/>
            </p:nvSpPr>
            <p:spPr>
              <a:xfrm>
                <a:off x="642960" y="372240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4"/>
            <p:cNvGrpSpPr/>
            <p:nvPr/>
          </p:nvGrpSpPr>
          <p:grpSpPr>
            <a:xfrm>
              <a:off x="642960" y="4655160"/>
              <a:ext cx="856800" cy="714600"/>
              <a:chOff x="642960" y="4655160"/>
              <a:chExt cx="856800" cy="714600"/>
            </a:xfrm>
          </p:grpSpPr>
          <p:sp>
            <p:nvSpPr>
              <p:cNvPr id="695" name="Oval 15"/>
              <p:cNvSpPr/>
              <p:nvPr/>
            </p:nvSpPr>
            <p:spPr>
              <a:xfrm>
                <a:off x="664200" y="4655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6" name="Oval 16"/>
              <p:cNvSpPr/>
              <p:nvPr/>
            </p:nvSpPr>
            <p:spPr>
              <a:xfrm>
                <a:off x="664200" y="4656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69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9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Text Box 18"/>
              <p:cNvSpPr/>
              <p:nvPr/>
            </p:nvSpPr>
            <p:spPr>
              <a:xfrm>
                <a:off x="642960" y="46591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14"/>
            <p:cNvGrpSpPr/>
            <p:nvPr/>
          </p:nvGrpSpPr>
          <p:grpSpPr>
            <a:xfrm>
              <a:off x="642960" y="5571360"/>
              <a:ext cx="856800" cy="714600"/>
              <a:chOff x="642960" y="5571360"/>
              <a:chExt cx="856800" cy="714600"/>
            </a:xfrm>
          </p:grpSpPr>
          <p:sp>
            <p:nvSpPr>
              <p:cNvPr id="700" name="Oval 15"/>
              <p:cNvSpPr/>
              <p:nvPr/>
            </p:nvSpPr>
            <p:spPr>
              <a:xfrm>
                <a:off x="664200" y="5571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01" name="Oval 16"/>
              <p:cNvSpPr/>
              <p:nvPr/>
            </p:nvSpPr>
            <p:spPr>
              <a:xfrm>
                <a:off x="664200" y="5573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702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5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Text Box 18"/>
              <p:cNvSpPr/>
              <p:nvPr/>
            </p:nvSpPr>
            <p:spPr>
              <a:xfrm>
                <a:off x="642960" y="5575320"/>
                <a:ext cx="856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4" name="AutoShape 4"/>
            <p:cNvSpPr/>
            <p:nvPr/>
          </p:nvSpPr>
          <p:spPr>
            <a:xfrm>
              <a:off x="1643040" y="2760480"/>
              <a:ext cx="7199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의 기초이론 학습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AutoShape 4"/>
            <p:cNvSpPr/>
            <p:nvPr/>
          </p:nvSpPr>
          <p:spPr>
            <a:xfrm>
              <a:off x="1622160" y="3697200"/>
              <a:ext cx="722016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화의 결과로 인한 노년기 삶의 변화 양상 이해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4"/>
            <p:cNvSpPr/>
            <p:nvPr/>
          </p:nvSpPr>
          <p:spPr>
            <a:xfrm>
              <a:off x="1643040" y="4633920"/>
              <a:ext cx="7199280" cy="6775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노화 영역별 사실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fact)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과 신화</a:t>
              </a:r>
              <a:r>
                <a:rPr b="0" lang="en-US" sz="2700" spc="-1" strike="noStrike">
                  <a:solidFill>
                    <a:srgbClr val="ffffff"/>
                  </a:solidFill>
                  <a:latin typeface="HY강B"/>
                </a:rPr>
                <a:t>(myth) </a:t>
              </a: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AutoShape 4"/>
            <p:cNvSpPr/>
            <p:nvPr/>
          </p:nvSpPr>
          <p:spPr>
            <a:xfrm>
              <a:off x="1643040" y="5570640"/>
              <a:ext cx="7199280" cy="680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700" spc="-1" strike="noStrike">
                  <a:solidFill>
                    <a:srgbClr val="ffffff"/>
                  </a:solidFill>
                  <a:latin typeface="HY강B"/>
                </a:rPr>
                <a:t>성공적 노화의 구성요인과 촉진방안 이해</a:t>
              </a:r>
              <a:endParaRPr b="0" lang="en-US" sz="2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8" name="AutoShape 7"/>
            <p:cNvSpPr/>
            <p:nvPr/>
          </p:nvSpPr>
          <p:spPr>
            <a:xfrm>
              <a:off x="250560" y="12114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Group 7"/>
          <p:cNvGrpSpPr/>
          <p:nvPr/>
        </p:nvGrpSpPr>
        <p:grpSpPr>
          <a:xfrm>
            <a:off x="71280" y="214200"/>
            <a:ext cx="9001440" cy="6000840"/>
            <a:chOff x="71280" y="214200"/>
            <a:chExt cx="9001440" cy="6000840"/>
          </a:xfrm>
        </p:grpSpPr>
        <p:sp>
          <p:nvSpPr>
            <p:cNvPr id="861" name="AutoShape 2"/>
            <p:cNvSpPr/>
            <p:nvPr/>
          </p:nvSpPr>
          <p:spPr>
            <a:xfrm>
              <a:off x="71280" y="714240"/>
              <a:ext cx="9001440" cy="5500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2" name="Text Box 25"/>
            <p:cNvSpPr/>
            <p:nvPr/>
          </p:nvSpPr>
          <p:spPr>
            <a:xfrm>
              <a:off x="214200" y="857160"/>
              <a:ext cx="8786880" cy="52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인기까지는 사회적 역할과 지위의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년기에는 상실이 많으므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의 시기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roleless  role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도 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단순한 상실보다는 획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이 복합되므로 역할전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role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ransition)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시기라고 보는 것이 더욱 타당함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Rosow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노년기 역할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도적 지위 약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박한 지위 강화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2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역할의 변화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업인→ 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계유지자→ 피부양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부 → 독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부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 줄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 집단 역할은 큰 변화 없음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Neugarten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의 사회적 역할수행 유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구성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리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속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한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구원요청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감각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해형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5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와 역할 전환의 영향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기가치 절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존감 및 삶의 만족도 저하 등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적 영향도 있지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부분의 노인들은 역할전환에 성공적으로 적응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지위와 역할에 만족하는 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3" name="직사각형 15"/>
            <p:cNvSpPr/>
            <p:nvPr/>
          </p:nvSpPr>
          <p:spPr>
            <a:xfrm>
              <a:off x="142920" y="214200"/>
              <a:ext cx="61578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지위와 역할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그룹 6"/>
          <p:cNvGrpSpPr/>
          <p:nvPr/>
        </p:nvGrpSpPr>
        <p:grpSpPr>
          <a:xfrm>
            <a:off x="285840" y="0"/>
            <a:ext cx="8858160" cy="6367320"/>
            <a:chOff x="285840" y="0"/>
            <a:chExt cx="8858160" cy="6367320"/>
          </a:xfrm>
        </p:grpSpPr>
        <p:pic>
          <p:nvPicPr>
            <p:cNvPr id="865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그룹 1"/>
            <p:cNvGrpSpPr/>
            <p:nvPr/>
          </p:nvGrpSpPr>
          <p:grpSpPr>
            <a:xfrm>
              <a:off x="285840" y="285480"/>
              <a:ext cx="8643960" cy="6081840"/>
              <a:chOff x="285840" y="285480"/>
              <a:chExt cx="8643960" cy="6081840"/>
            </a:xfrm>
          </p:grpSpPr>
          <p:sp>
            <p:nvSpPr>
              <p:cNvPr id="867" name="AutoShape 4"/>
              <p:cNvSpPr/>
              <p:nvPr/>
            </p:nvSpPr>
            <p:spPr>
              <a:xfrm>
                <a:off x="285840" y="285480"/>
                <a:ext cx="54291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800" spc="-1" strike="noStrike">
                    <a:solidFill>
                      <a:srgbClr val="ffffff"/>
                    </a:solidFill>
                    <a:latin typeface="HY강B"/>
                  </a:rPr>
                  <a:t>사회적 노화의 신화와 사실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8" name="AutoShape 2"/>
              <p:cNvSpPr/>
              <p:nvPr/>
            </p:nvSpPr>
            <p:spPr>
              <a:xfrm>
                <a:off x="285840" y="1045440"/>
                <a:ext cx="8643960" cy="5321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69" name="Text Box 6"/>
              <p:cNvSpPr/>
              <p:nvPr/>
            </p:nvSpPr>
            <p:spPr>
              <a:xfrm>
                <a:off x="357120" y="1196280"/>
                <a:ext cx="8504640" cy="512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류사회에서 퇴출 → 봉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을 통해 주류사회 참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고독하고 소외됨 → 자녀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웃과 유기적 관계 형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난 → 빈곤 가능성 높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자녀 지원으로 경제생활 유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혼자 있고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TV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시청 → 소극적이고 시간소모적 여가활동 많지만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이는 여가환경 미비에 기인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여가의식이 개선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5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학대와 방임 → 학대와 차별이 증가하나 자녀 존경 받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복지확대로 인한 가족기능 약화 → 가족기능 보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강화 기능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7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일할 수 없음 →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65-79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세의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44%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도가 일하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bridge job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가진 후 은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화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: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관심과 투표율 낮음 → 관심과 투표율 높으며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터넷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정치홍보 등으로 인한 정치환경 변화로 보수적 성향 강화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871" name="AutoShape 2"/>
            <p:cNvSpPr/>
            <p:nvPr/>
          </p:nvSpPr>
          <p:spPr>
            <a:xfrm>
              <a:off x="285480" y="3786120"/>
              <a:ext cx="8572680" cy="1285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72" name="그룹 20"/>
            <p:cNvGrpSpPr/>
            <p:nvPr/>
          </p:nvGrpSpPr>
          <p:grpSpPr>
            <a:xfrm>
              <a:off x="0" y="0"/>
              <a:ext cx="9144000" cy="3286080"/>
              <a:chOff x="0" y="0"/>
              <a:chExt cx="9144000" cy="3286080"/>
            </a:xfrm>
          </p:grpSpPr>
          <p:sp>
            <p:nvSpPr>
              <p:cNvPr id="873" name="AutoShape 2"/>
              <p:cNvSpPr/>
              <p:nvPr/>
            </p:nvSpPr>
            <p:spPr>
              <a:xfrm>
                <a:off x="285480" y="2000160"/>
                <a:ext cx="8572680" cy="1285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874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5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성공적 노화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876" name="그룹 10"/>
            <p:cNvGrpSpPr/>
            <p:nvPr/>
          </p:nvGrpSpPr>
          <p:grpSpPr>
            <a:xfrm>
              <a:off x="285480" y="928440"/>
              <a:ext cx="7643880" cy="2288520"/>
              <a:chOff x="285480" y="928440"/>
              <a:chExt cx="7643880" cy="2288520"/>
            </a:xfrm>
          </p:grpSpPr>
          <p:sp>
            <p:nvSpPr>
              <p:cNvPr id="877" name="AutoShape 4"/>
              <p:cNvSpPr/>
              <p:nvPr/>
            </p:nvSpPr>
            <p:spPr>
              <a:xfrm>
                <a:off x="285480" y="928440"/>
                <a:ext cx="5357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500" spc="-1" strike="noStrike">
                    <a:solidFill>
                      <a:srgbClr val="ffffff"/>
                    </a:solidFill>
                    <a:latin typeface="HY강B"/>
                  </a:rPr>
                  <a:t>성공적 노화의 개념과 구성요인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78" name="Text Box 6"/>
              <p:cNvSpPr/>
              <p:nvPr/>
            </p:nvSpPr>
            <p:spPr>
              <a:xfrm>
                <a:off x="356760" y="2014200"/>
                <a:ext cx="7572600" cy="12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미국노년사회학회에서 처음 제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생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학 등에서 연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Row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Kahn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ood aging, active aging, healthy aging, productive aging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15"/>
            <p:cNvSpPr/>
            <p:nvPr/>
          </p:nvSpPr>
          <p:spPr>
            <a:xfrm>
              <a:off x="285480" y="160344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성공적 노화에 대한 관심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Text Box 6"/>
            <p:cNvSpPr/>
            <p:nvPr/>
          </p:nvSpPr>
          <p:spPr>
            <a:xfrm>
              <a:off x="357120" y="3871800"/>
              <a:ext cx="864396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생물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기능 수준이 높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만족과 환경에 대한 적응 수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높은 상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Rowe &amp; Kahn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최적의 노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optimal aging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유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직사각형 19"/>
            <p:cNvSpPr/>
            <p:nvPr/>
          </p:nvSpPr>
          <p:spPr>
            <a:xfrm>
              <a:off x="285480" y="338940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직사각형 20"/>
            <p:cNvSpPr/>
            <p:nvPr/>
          </p:nvSpPr>
          <p:spPr>
            <a:xfrm>
              <a:off x="285480" y="5214960"/>
              <a:ext cx="4071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구성요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3" name="AutoShape 2"/>
            <p:cNvSpPr/>
            <p:nvPr/>
          </p:nvSpPr>
          <p:spPr>
            <a:xfrm>
              <a:off x="285480" y="5572440"/>
              <a:ext cx="8572680" cy="785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4" name="Text Box 6"/>
            <p:cNvSpPr/>
            <p:nvPr/>
          </p:nvSpPr>
          <p:spPr>
            <a:xfrm>
              <a:off x="357120" y="5572440"/>
              <a:ext cx="86439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6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&amp;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2-3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공적 노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healthy aging + adaptive aging + active or productive aging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그룹 7"/>
          <p:cNvGrpSpPr/>
          <p:nvPr/>
        </p:nvGrpSpPr>
        <p:grpSpPr>
          <a:xfrm>
            <a:off x="285840" y="357120"/>
            <a:ext cx="8647200" cy="5786640"/>
            <a:chOff x="285840" y="357120"/>
            <a:chExt cx="8647200" cy="5786640"/>
          </a:xfrm>
        </p:grpSpPr>
        <p:pic>
          <p:nvPicPr>
            <p:cNvPr id="886" name="Picture 4" descr="C:\DOCUME~1\USER\LOCALS~1\Temp\UNI000006c8818c.gif"/>
            <p:cNvPicPr/>
            <p:nvPr/>
          </p:nvPicPr>
          <p:blipFill>
            <a:blip r:embed="rId1"/>
            <a:stretch/>
          </p:blipFill>
          <p:spPr>
            <a:xfrm>
              <a:off x="785880" y="4988160"/>
              <a:ext cx="12859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Rectangle 4"/>
            <p:cNvSpPr/>
            <p:nvPr/>
          </p:nvSpPr>
          <p:spPr>
            <a:xfrm>
              <a:off x="2071800" y="5500800"/>
              <a:ext cx="628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0" lang="en-US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8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년기의 경제생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888" name="그룹 7"/>
            <p:cNvGrpSpPr/>
            <p:nvPr/>
          </p:nvGrpSpPr>
          <p:grpSpPr>
            <a:xfrm>
              <a:off x="285840" y="357120"/>
              <a:ext cx="8647200" cy="4000680"/>
              <a:chOff x="285840" y="357120"/>
              <a:chExt cx="8647200" cy="4000680"/>
            </a:xfrm>
          </p:grpSpPr>
          <p:sp>
            <p:nvSpPr>
              <p:cNvPr id="889" name="AutoShape 4"/>
              <p:cNvSpPr/>
              <p:nvPr/>
            </p:nvSpPr>
            <p:spPr>
              <a:xfrm>
                <a:off x="285840" y="357120"/>
                <a:ext cx="5087880" cy="51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성공적 노화의 촉진방안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0" name="AutoShape 2"/>
              <p:cNvSpPr/>
              <p:nvPr/>
            </p:nvSpPr>
            <p:spPr>
              <a:xfrm>
                <a:off x="285840" y="1097280"/>
                <a:ext cx="8643960" cy="3260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891" name="Text Box 6"/>
              <p:cNvSpPr/>
              <p:nvPr/>
            </p:nvSpPr>
            <p:spPr>
              <a:xfrm>
                <a:off x="428400" y="1260360"/>
                <a:ext cx="850464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건강증진 위한 생활습관 관리와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차적 예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심리적 만족과 정신적 건강생활 위한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생회고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평생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인지기능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영성훈련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죽음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스트레스 관리 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안정 지원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교육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후자금 준비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유산배분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경제활동 참여 및 사회발전 기여활동 기회 부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사회적 관계 유지 및 적극적 여가참여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그룹 16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sp>
          <p:nvSpPr>
            <p:cNvPr id="711" name="AutoShape 2"/>
            <p:cNvSpPr/>
            <p:nvPr/>
          </p:nvSpPr>
          <p:spPr>
            <a:xfrm>
              <a:off x="180720" y="5857920"/>
              <a:ext cx="882036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180720" y="1500120"/>
              <a:ext cx="882036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AutoShape 2"/>
            <p:cNvSpPr/>
            <p:nvPr/>
          </p:nvSpPr>
          <p:spPr>
            <a:xfrm>
              <a:off x="180720" y="392904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화의 개념과 영역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16" name="그룹 22"/>
            <p:cNvGrpSpPr/>
            <p:nvPr/>
          </p:nvGrpSpPr>
          <p:grpSpPr>
            <a:xfrm>
              <a:off x="142560" y="928440"/>
              <a:ext cx="8786880" cy="5399640"/>
              <a:chOff x="142560" y="928440"/>
              <a:chExt cx="8786880" cy="5399640"/>
            </a:xfrm>
          </p:grpSpPr>
          <p:grpSp>
            <p:nvGrpSpPr>
              <p:cNvPr id="717" name="그룹 10"/>
              <p:cNvGrpSpPr/>
              <p:nvPr/>
            </p:nvGrpSpPr>
            <p:grpSpPr>
              <a:xfrm>
                <a:off x="142560" y="928440"/>
                <a:ext cx="8786880" cy="2269080"/>
                <a:chOff x="142560" y="928440"/>
                <a:chExt cx="8786880" cy="2269080"/>
              </a:xfrm>
            </p:grpSpPr>
            <p:sp>
              <p:nvSpPr>
                <p:cNvPr id="718" name="AutoShape 29"/>
                <p:cNvSpPr/>
                <p:nvPr/>
              </p:nvSpPr>
              <p:spPr>
                <a:xfrm>
                  <a:off x="142560" y="9284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발달로서의 노화</a:t>
                  </a: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(aging)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25"/>
                <p:cNvSpPr/>
                <p:nvPr/>
              </p:nvSpPr>
              <p:spPr>
                <a:xfrm>
                  <a:off x="285120" y="1572480"/>
                  <a:ext cx="8644320" cy="162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생물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의 연속적이고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서정연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하며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승적 발달과 퇴행적 발달을 포괄하는 역동적인 안정과 변화의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과정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 중 퇴행적 발달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장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숙과 대비되는 개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그룹 10"/>
              <p:cNvGrpSpPr/>
              <p:nvPr/>
            </p:nvGrpSpPr>
            <p:grpSpPr>
              <a:xfrm>
                <a:off x="142560" y="3390480"/>
                <a:ext cx="8786880" cy="1783440"/>
                <a:chOff x="142560" y="3390480"/>
                <a:chExt cx="8786880" cy="1783440"/>
              </a:xfrm>
            </p:grpSpPr>
            <p:sp>
              <p:nvSpPr>
                <p:cNvPr id="721" name="AutoShape 29"/>
                <p:cNvSpPr/>
                <p:nvPr/>
              </p:nvSpPr>
              <p:spPr>
                <a:xfrm>
                  <a:off x="142560" y="339048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개념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25"/>
                <p:cNvSpPr/>
                <p:nvPr/>
              </p:nvSpPr>
              <p:spPr>
                <a:xfrm>
                  <a:off x="285120" y="4012560"/>
                  <a:ext cx="86443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시간의 흐름에 따라 유기체의 생물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측면에서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점진적이고 정상적인 발달과정상의 변화로서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주로 퇴행적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발달을 의미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그룹 10"/>
              <p:cNvGrpSpPr/>
              <p:nvPr/>
            </p:nvGrpSpPr>
            <p:grpSpPr>
              <a:xfrm>
                <a:off x="142560" y="5286240"/>
                <a:ext cx="8572680" cy="1041840"/>
                <a:chOff x="142560" y="5286240"/>
                <a:chExt cx="8572680" cy="1041840"/>
              </a:xfrm>
            </p:grpSpPr>
            <p:sp>
              <p:nvSpPr>
                <p:cNvPr id="724" name="AutoShape 29"/>
                <p:cNvSpPr/>
                <p:nvPr/>
              </p:nvSpPr>
              <p:spPr>
                <a:xfrm>
                  <a:off x="142560" y="5286240"/>
                  <a:ext cx="8572680" cy="571320"/>
                </a:xfrm>
                <a:prstGeom prst="roundRect">
                  <a:avLst>
                    <a:gd name="adj" fmla="val 1374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SzPct val="102851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  </a:t>
                  </a:r>
                  <a:r>
                    <a:rPr b="0" lang="ko-KR" sz="2500" spc="-1" strike="noStrike">
                      <a:solidFill>
                        <a:srgbClr val="af334e"/>
                      </a:solidFill>
                      <a:latin typeface="HY강B"/>
                    </a:rPr>
                    <a:t>노화의 영역</a:t>
                  </a:r>
                  <a:endParaRPr b="0" lang="en-US" sz="25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25"/>
                <p:cNvSpPr/>
                <p:nvPr/>
              </p:nvSpPr>
              <p:spPr>
                <a:xfrm>
                  <a:off x="285120" y="5929200"/>
                  <a:ext cx="6215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buSzPct val="10279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화</a:t>
                  </a:r>
                  <a:r>
                    <a:rPr b="1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심리적 노화 </a:t>
                  </a:r>
                  <a:r>
                    <a:rPr b="0" lang="en-US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노화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그룹 9"/>
          <p:cNvGrpSpPr/>
          <p:nvPr/>
        </p:nvGrpSpPr>
        <p:grpSpPr>
          <a:xfrm>
            <a:off x="142920" y="71280"/>
            <a:ext cx="8858160" cy="6215400"/>
            <a:chOff x="142920" y="71280"/>
            <a:chExt cx="8858160" cy="6215400"/>
          </a:xfrm>
        </p:grpSpPr>
        <p:sp>
          <p:nvSpPr>
            <p:cNvPr id="727" name="AutoShape 2"/>
            <p:cNvSpPr/>
            <p:nvPr/>
          </p:nvSpPr>
          <p:spPr>
            <a:xfrm>
              <a:off x="180720" y="64260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28" name="그룹 10"/>
            <p:cNvGrpSpPr/>
            <p:nvPr/>
          </p:nvGrpSpPr>
          <p:grpSpPr>
            <a:xfrm>
              <a:off x="142920" y="71280"/>
              <a:ext cx="8786880" cy="3424320"/>
              <a:chOff x="142920" y="71280"/>
              <a:chExt cx="8786880" cy="3424320"/>
            </a:xfrm>
          </p:grpSpPr>
          <p:sp>
            <p:nvSpPr>
              <p:cNvPr id="729" name="AutoShape 29"/>
              <p:cNvSpPr/>
              <p:nvPr/>
            </p:nvSpPr>
            <p:spPr>
              <a:xfrm>
                <a:off x="142920" y="7128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의 특성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0" name="Text Box 25"/>
              <p:cNvSpPr/>
              <p:nvPr/>
            </p:nvSpPr>
            <p:spPr>
              <a:xfrm>
                <a:off x="285480" y="690480"/>
                <a:ext cx="8644320" cy="280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를 변화로만 보는 경향이 있으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성도 동시에 고려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상실과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쇠퇴와 성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긍정과 부정의 두 측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의 쇠퇴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과 지혜의 확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보편성과 개별성을 포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는 유전과 환경에 의한 외적 변화와 내적 변화를 모두 포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는 원상태로의 복귀가 어렵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가역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노화는 원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태로의 회복이 가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퇴직 후 재취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31" name="그룹 10"/>
            <p:cNvGrpSpPr/>
            <p:nvPr/>
          </p:nvGrpSpPr>
          <p:grpSpPr>
            <a:xfrm>
              <a:off x="142920" y="3611520"/>
              <a:ext cx="8786880" cy="2610360"/>
              <a:chOff x="142920" y="3611520"/>
              <a:chExt cx="8786880" cy="2610360"/>
            </a:xfrm>
          </p:grpSpPr>
          <p:sp>
            <p:nvSpPr>
              <p:cNvPr id="732" name="AutoShape 29"/>
              <p:cNvSpPr/>
              <p:nvPr/>
            </p:nvSpPr>
            <p:spPr>
              <a:xfrm>
                <a:off x="142920" y="36115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5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500" spc="-1" strike="noStrike">
                    <a:solidFill>
                      <a:srgbClr val="af334e"/>
                    </a:solidFill>
                    <a:latin typeface="HY강B"/>
                  </a:rPr>
                  <a:t>노화와 질병의 관계</a:t>
                </a:r>
                <a:endParaRPr b="0" lang="en-US" sz="25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33" name="Text Box 25"/>
              <p:cNvSpPr/>
              <p:nvPr/>
            </p:nvSpPr>
            <p:spPr>
              <a:xfrm>
                <a:off x="285480" y="4184640"/>
                <a:ext cx="864432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결과를 질병으로 간주하는 경향이 있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자체만으로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이 유발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의 진행과 함께 발병 가능성이 높아지는 것은 병리적 노화 때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기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전과 환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상적 노화 → 신체기능의 저하 → 위험인자 개입 →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병리적 노화로 전환 → 질병에의 이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34" name="AutoShape 2"/>
            <p:cNvSpPr/>
            <p:nvPr/>
          </p:nvSpPr>
          <p:spPr>
            <a:xfrm>
              <a:off x="180720" y="4143600"/>
              <a:ext cx="882036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그룹 17"/>
          <p:cNvGrpSpPr/>
          <p:nvPr/>
        </p:nvGrpSpPr>
        <p:grpSpPr>
          <a:xfrm>
            <a:off x="0" y="0"/>
            <a:ext cx="9144000" cy="6424920"/>
            <a:chOff x="0" y="0"/>
            <a:chExt cx="9144000" cy="6424920"/>
          </a:xfrm>
        </p:grpSpPr>
        <p:pic>
          <p:nvPicPr>
            <p:cNvPr id="73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2"/>
            <p:cNvSpPr/>
            <p:nvPr/>
          </p:nvSpPr>
          <p:spPr>
            <a:xfrm>
              <a:off x="1428480" y="71280"/>
              <a:ext cx="728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생물적 노화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38" name="그룹 34"/>
            <p:cNvGrpSpPr/>
            <p:nvPr/>
          </p:nvGrpSpPr>
          <p:grpSpPr>
            <a:xfrm>
              <a:off x="142560" y="785520"/>
              <a:ext cx="8858520" cy="3286080"/>
              <a:chOff x="142560" y="785520"/>
              <a:chExt cx="8858520" cy="3286080"/>
            </a:xfrm>
          </p:grpSpPr>
          <p:grpSp>
            <p:nvGrpSpPr>
              <p:cNvPr id="739" name="그룹 6"/>
              <p:cNvGrpSpPr/>
              <p:nvPr/>
            </p:nvGrpSpPr>
            <p:grpSpPr>
              <a:xfrm>
                <a:off x="180360" y="2531880"/>
                <a:ext cx="8820720" cy="1539720"/>
                <a:chOff x="180360" y="2531880"/>
                <a:chExt cx="8820720" cy="1539720"/>
              </a:xfrm>
            </p:grpSpPr>
            <p:sp>
              <p:nvSpPr>
                <p:cNvPr id="740" name="AutoShape 2"/>
                <p:cNvSpPr/>
                <p:nvPr/>
              </p:nvSpPr>
              <p:spPr>
                <a:xfrm>
                  <a:off x="180360" y="2531880"/>
                  <a:ext cx="8820720" cy="1539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25"/>
                <p:cNvSpPr/>
                <p:nvPr/>
              </p:nvSpPr>
              <p:spPr>
                <a:xfrm>
                  <a:off x="213480" y="2571480"/>
                  <a:ext cx="8787600" cy="148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퇴화과정이 생물적 재생산과정을 능가하여 유기체내에 퇴행적 변화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타나는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나이가 들어감에 따라 신체 구조 및 신체 내부의 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기 등 유기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전반에 일어나는 쇠퇴적 발달 현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2" name="그룹 30"/>
              <p:cNvGrpSpPr/>
              <p:nvPr/>
            </p:nvGrpSpPr>
            <p:grpSpPr>
              <a:xfrm>
                <a:off x="180720" y="785520"/>
                <a:ext cx="8820360" cy="1285920"/>
                <a:chOff x="180720" y="785520"/>
                <a:chExt cx="8820360" cy="1285920"/>
              </a:xfrm>
            </p:grpSpPr>
            <p:sp>
              <p:nvSpPr>
                <p:cNvPr id="743" name="AutoShape 2"/>
                <p:cNvSpPr/>
                <p:nvPr/>
              </p:nvSpPr>
              <p:spPr>
                <a:xfrm>
                  <a:off x="180720" y="1213920"/>
                  <a:ext cx="8820360" cy="8575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4" name="AutoShape 7"/>
                <p:cNvSpPr/>
                <p:nvPr/>
              </p:nvSpPr>
              <p:spPr>
                <a:xfrm>
                  <a:off x="285120" y="785520"/>
                  <a:ext cx="4786560" cy="4287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0" lang="ko-KR" sz="2300" spc="-1" strike="noStrike">
                      <a:solidFill>
                        <a:srgbClr val="ffffff"/>
                      </a:solidFill>
                      <a:latin typeface="HY강B"/>
                    </a:rPr>
                    <a:t>생물적 노화의 개념과 특성</a:t>
                  </a:r>
                  <a:endParaRPr b="0" lang="en-US" sz="23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45" name="Text Box 25"/>
                <p:cNvSpPr/>
                <p:nvPr/>
              </p:nvSpPr>
              <p:spPr>
                <a:xfrm>
                  <a:off x="294480" y="1285560"/>
                  <a:ext cx="856368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반적으로 노화를 신체구조의 외적 변화를 의미할 정도로 신체적 노화가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익숙한 개념이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가 더욱 정확한 개념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6" name="AutoShape 29"/>
              <p:cNvSpPr/>
              <p:nvPr/>
            </p:nvSpPr>
            <p:spPr>
              <a:xfrm>
                <a:off x="142560" y="207144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B"/>
                  </a:rPr>
                  <a:t>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47" name="그룹 33"/>
            <p:cNvGrpSpPr/>
            <p:nvPr/>
          </p:nvGrpSpPr>
          <p:grpSpPr>
            <a:xfrm>
              <a:off x="142560" y="4021200"/>
              <a:ext cx="8858520" cy="2403720"/>
              <a:chOff x="142560" y="4021200"/>
              <a:chExt cx="8858520" cy="2403720"/>
            </a:xfrm>
          </p:grpSpPr>
          <p:grpSp>
            <p:nvGrpSpPr>
              <p:cNvPr id="748" name="그룹 6"/>
              <p:cNvGrpSpPr/>
              <p:nvPr/>
            </p:nvGrpSpPr>
            <p:grpSpPr>
              <a:xfrm>
                <a:off x="180720" y="4481280"/>
                <a:ext cx="8820360" cy="1943640"/>
                <a:chOff x="180720" y="4481280"/>
                <a:chExt cx="8820360" cy="1943640"/>
              </a:xfrm>
            </p:grpSpPr>
            <p:sp>
              <p:nvSpPr>
                <p:cNvPr id="749" name="AutoShape 2"/>
                <p:cNvSpPr/>
                <p:nvPr/>
              </p:nvSpPr>
              <p:spPr>
                <a:xfrm>
                  <a:off x="180720" y="4481280"/>
                  <a:ext cx="8820360" cy="189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5"/>
                <p:cNvSpPr/>
                <p:nvPr/>
              </p:nvSpPr>
              <p:spPr>
                <a:xfrm>
                  <a:off x="213840" y="4520880"/>
                  <a:ext cx="8644320" cy="190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=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+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의 쇠퇴로 인하여 활력을 상실하고 질병에 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저항력이 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리적 노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기체의 기관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조직체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세포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체 통제기제 등의 쇠퇴와 기능이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약화되는 노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29"/>
              <p:cNvSpPr/>
              <p:nvPr/>
            </p:nvSpPr>
            <p:spPr>
              <a:xfrm>
                <a:off x="142560" y="402120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영역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그룹 17"/>
          <p:cNvGrpSpPr/>
          <p:nvPr/>
        </p:nvGrpSpPr>
        <p:grpSpPr>
          <a:xfrm>
            <a:off x="142920" y="0"/>
            <a:ext cx="8858160" cy="6286680"/>
            <a:chOff x="142920" y="0"/>
            <a:chExt cx="8858160" cy="6286680"/>
          </a:xfrm>
        </p:grpSpPr>
        <p:grpSp>
          <p:nvGrpSpPr>
            <p:cNvPr id="753" name="그룹 9"/>
            <p:cNvGrpSpPr/>
            <p:nvPr/>
          </p:nvGrpSpPr>
          <p:grpSpPr>
            <a:xfrm>
              <a:off x="142920" y="0"/>
              <a:ext cx="8858160" cy="2143080"/>
              <a:chOff x="142920" y="0"/>
              <a:chExt cx="8858160" cy="2143080"/>
            </a:xfrm>
          </p:grpSpPr>
          <p:grpSp>
            <p:nvGrpSpPr>
              <p:cNvPr id="754" name="그룹 6"/>
              <p:cNvGrpSpPr/>
              <p:nvPr/>
            </p:nvGrpSpPr>
            <p:grpSpPr>
              <a:xfrm>
                <a:off x="181080" y="531720"/>
                <a:ext cx="8820000" cy="1611360"/>
                <a:chOff x="181080" y="531720"/>
                <a:chExt cx="8820000" cy="1611360"/>
              </a:xfrm>
            </p:grpSpPr>
            <p:sp>
              <p:nvSpPr>
                <p:cNvPr id="755" name="AutoShape 2"/>
                <p:cNvSpPr/>
                <p:nvPr/>
              </p:nvSpPr>
              <p:spPr>
                <a:xfrm>
                  <a:off x="181080" y="531720"/>
                  <a:ext cx="8820000" cy="1611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56" name="Text Box 25"/>
                <p:cNvSpPr/>
                <p:nvPr/>
              </p:nvSpPr>
              <p:spPr>
                <a:xfrm>
                  <a:off x="214200" y="633240"/>
                  <a:ext cx="8643960" cy="143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외적 환경요인에 의해 촉진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유전 등 내적 요인에 의해 주로 유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모든 사람에게 보편적으로 나타나지만 노화 속도나 정도는 개인차 있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구조와 기능 저하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일상생활 동작능력 저하로 인해 신체에 부정적 영향을 미치며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에 대한 저항력 상실을 초래하고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명의 종식에 이르게 함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AutoShape 29"/>
              <p:cNvSpPr/>
              <p:nvPr/>
            </p:nvSpPr>
            <p:spPr>
              <a:xfrm>
                <a:off x="142920" y="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원인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58" name="그룹 14"/>
            <p:cNvGrpSpPr/>
            <p:nvPr/>
          </p:nvGrpSpPr>
          <p:grpSpPr>
            <a:xfrm>
              <a:off x="142920" y="2112840"/>
              <a:ext cx="8858160" cy="2673360"/>
              <a:chOff x="142920" y="2112840"/>
              <a:chExt cx="8858160" cy="2673360"/>
            </a:xfrm>
          </p:grpSpPr>
          <p:grpSp>
            <p:nvGrpSpPr>
              <p:cNvPr id="759" name="그룹 6"/>
              <p:cNvGrpSpPr/>
              <p:nvPr/>
            </p:nvGrpSpPr>
            <p:grpSpPr>
              <a:xfrm>
                <a:off x="181080" y="2644560"/>
                <a:ext cx="8820000" cy="2141640"/>
                <a:chOff x="181080" y="2644560"/>
                <a:chExt cx="8820000" cy="2141640"/>
              </a:xfrm>
            </p:grpSpPr>
            <p:sp>
              <p:nvSpPr>
                <p:cNvPr id="760" name="AutoShape 2"/>
                <p:cNvSpPr/>
                <p:nvPr/>
              </p:nvSpPr>
              <p:spPr>
                <a:xfrm>
                  <a:off x="181080" y="2644560"/>
                  <a:ext cx="8820000" cy="2141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1" name="Text Box 25"/>
                <p:cNvSpPr/>
                <p:nvPr/>
              </p:nvSpPr>
              <p:spPr>
                <a:xfrm>
                  <a:off x="214200" y="2706480"/>
                  <a:ext cx="8643960" cy="199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최적의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적 유전요인과 긍정적 환경의 작용으로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신체기능의 저하가 최소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한도인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즉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성공적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통상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긍정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중성적 유전요인에 부정적 환경요인이 작용하여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질병과 기능제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을 초래하지만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그 정도가 심하지 않은 상태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901"/>
                    </a:spcBef>
                    <a:buSzPct val="102857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병리적 노화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부정적 유전요인에 부정적 환경요인이 작용하여 심각한 만성질환과 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장애를 초래하는 노화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AutoShape 29"/>
              <p:cNvSpPr/>
              <p:nvPr/>
            </p:nvSpPr>
            <p:spPr>
              <a:xfrm>
                <a:off x="142920" y="211284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수준</a:t>
                </a:r>
                <a:r>
                  <a:rPr b="0" lang="en-US" sz="1600" spc="-1" strike="noStrike">
                    <a:solidFill>
                      <a:srgbClr val="1d528d"/>
                    </a:solidFill>
                    <a:latin typeface="HY강B"/>
                  </a:rPr>
                  <a:t>(Rowe &amp; Kahn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63" name="그룹 19"/>
            <p:cNvGrpSpPr/>
            <p:nvPr/>
          </p:nvGrpSpPr>
          <p:grpSpPr>
            <a:xfrm>
              <a:off x="142920" y="4870800"/>
              <a:ext cx="8858160" cy="1415880"/>
              <a:chOff x="142920" y="4870800"/>
              <a:chExt cx="8858160" cy="1415880"/>
            </a:xfrm>
          </p:grpSpPr>
          <p:grpSp>
            <p:nvGrpSpPr>
              <p:cNvPr id="764" name="그룹 6"/>
              <p:cNvGrpSpPr/>
              <p:nvPr/>
            </p:nvGrpSpPr>
            <p:grpSpPr>
              <a:xfrm>
                <a:off x="181080" y="5382720"/>
                <a:ext cx="8820000" cy="903960"/>
                <a:chOff x="181080" y="5382720"/>
                <a:chExt cx="8820000" cy="903960"/>
              </a:xfrm>
            </p:grpSpPr>
            <p:sp>
              <p:nvSpPr>
                <p:cNvPr id="765" name="AutoShape 2"/>
                <p:cNvSpPr/>
                <p:nvPr/>
              </p:nvSpPr>
              <p:spPr>
                <a:xfrm>
                  <a:off x="181080" y="5382720"/>
                  <a:ext cx="8820000" cy="9039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25"/>
                <p:cNvSpPr/>
                <p:nvPr/>
              </p:nvSpPr>
              <p:spPr>
                <a:xfrm>
                  <a:off x="214200" y="5435640"/>
                  <a:ext cx="8643960" cy="74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의 수용→ 심리사회적 기능의 유지와 발전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63"/>
                    </a:spcBef>
                    <a:buSzPct val="102857"/>
                    <a:buBlip>
                      <a:blip r:embed="rId10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생물적 노화에 집착</a:t>
                  </a:r>
                  <a:r>
                    <a:rPr b="0" lang="en-US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/</a:t>
                  </a:r>
                  <a:r>
                    <a:rPr b="0" lang="ko-KR" sz="17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몰두→ 심리사회적 기능의 손상과 삶의 만족도 저하</a:t>
                  </a:r>
                  <a:endParaRPr b="0" lang="en-US" sz="17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AutoShape 29"/>
              <p:cNvSpPr/>
              <p:nvPr/>
            </p:nvSpPr>
            <p:spPr>
              <a:xfrm>
                <a:off x="142920" y="4870800"/>
                <a:ext cx="8572680" cy="48708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생물적 노화의 영향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그룹 6"/>
          <p:cNvGrpSpPr/>
          <p:nvPr/>
        </p:nvGrpSpPr>
        <p:grpSpPr>
          <a:xfrm>
            <a:off x="285840" y="0"/>
            <a:ext cx="8643960" cy="6286680"/>
            <a:chOff x="285840" y="0"/>
            <a:chExt cx="8643960" cy="6286680"/>
          </a:xfrm>
        </p:grpSpPr>
        <p:pic>
          <p:nvPicPr>
            <p:cNvPr id="769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786560" y="0"/>
              <a:ext cx="40719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AutoShape 4"/>
            <p:cNvSpPr/>
            <p:nvPr/>
          </p:nvSpPr>
          <p:spPr>
            <a:xfrm>
              <a:off x="285840" y="71424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생물적 노화의 주요이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771" name="그룹 6"/>
            <p:cNvGrpSpPr/>
            <p:nvPr/>
          </p:nvGrpSpPr>
          <p:grpSpPr>
            <a:xfrm>
              <a:off x="357120" y="1579680"/>
              <a:ext cx="8572680" cy="4707000"/>
              <a:chOff x="357120" y="1579680"/>
              <a:chExt cx="8572680" cy="4707000"/>
            </a:xfrm>
          </p:grpSpPr>
          <p:sp>
            <p:nvSpPr>
              <p:cNvPr id="772" name="AutoShape 2"/>
              <p:cNvSpPr/>
              <p:nvPr/>
            </p:nvSpPr>
            <p:spPr>
              <a:xfrm>
                <a:off x="357120" y="1579680"/>
                <a:ext cx="8572680" cy="4707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3" name="Text Box 6"/>
              <p:cNvSpPr/>
              <p:nvPr/>
            </p:nvSpPr>
            <p:spPr>
              <a:xfrm>
                <a:off x="717480" y="1960560"/>
                <a:ext cx="8069760" cy="403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-1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용마모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축적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차연결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변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포분열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해산소이론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전자조절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오류재해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DNA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다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질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텔로메라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학적 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진대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열량제한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망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경호르몬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흉선자극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명속도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 통제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이론</a:t>
                </a:r>
                <a:r>
                  <a:rPr b="1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면역반응이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동면역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스트레스 이론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그룹 1"/>
          <p:cNvGrpSpPr/>
          <p:nvPr/>
        </p:nvGrpSpPr>
        <p:grpSpPr>
          <a:xfrm>
            <a:off x="142920" y="428760"/>
            <a:ext cx="8858160" cy="5830200"/>
            <a:chOff x="142920" y="428760"/>
            <a:chExt cx="8858160" cy="5830200"/>
          </a:xfrm>
        </p:grpSpPr>
        <p:grpSp>
          <p:nvGrpSpPr>
            <p:cNvPr id="775" name="그룹 6"/>
            <p:cNvGrpSpPr/>
            <p:nvPr/>
          </p:nvGrpSpPr>
          <p:grpSpPr>
            <a:xfrm>
              <a:off x="180720" y="1871640"/>
              <a:ext cx="8820360" cy="4387320"/>
              <a:chOff x="180720" y="1871640"/>
              <a:chExt cx="8820360" cy="4387320"/>
            </a:xfrm>
          </p:grpSpPr>
          <p:sp>
            <p:nvSpPr>
              <p:cNvPr id="776" name="AutoShape 2"/>
              <p:cNvSpPr/>
              <p:nvPr/>
            </p:nvSpPr>
            <p:spPr>
              <a:xfrm>
                <a:off x="180720" y="1871640"/>
                <a:ext cx="8820360" cy="4343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77" name="Text Box 25"/>
              <p:cNvSpPr/>
              <p:nvPr/>
            </p:nvSpPr>
            <p:spPr>
              <a:xfrm>
                <a:off x="356760" y="2081160"/>
                <a:ext cx="8644320" cy="417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세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색소인 지방갈색소가 많아지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백질 합성에 필수적인 분자가 생산되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않아 세포가 노화되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 기관과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직이 노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섬유질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섬유질 교체 부진으로 신체조직 쉽게 손상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파편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칼슘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체중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키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에 비해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%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감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치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6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80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로 줄어듦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 치아 개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8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+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니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머리카락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ilver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색으로 변화 → 노인의 고유색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버세대로 부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피부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창백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얼룩반점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성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피하지방과 신경세포 감소로 피부탄력과 체온유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능력 감소 → 온도적응 문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기질환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stroke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직구성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방분 증가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형분과 수분 감소 → 골절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골다공증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골조직 얇아지고 탄력약화 → 관절염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의근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신의 의지대로 움직일 수 있는 근육</a:t>
                </a:r>
                <a:r>
                  <a:rPr b="0" lang="en-US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3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약화 → 운동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778" name="그룹 30"/>
            <p:cNvGrpSpPr/>
            <p:nvPr/>
          </p:nvGrpSpPr>
          <p:grpSpPr>
            <a:xfrm>
              <a:off x="181080" y="428760"/>
              <a:ext cx="8748720" cy="970920"/>
              <a:chOff x="181080" y="428760"/>
              <a:chExt cx="8748720" cy="970920"/>
            </a:xfrm>
          </p:grpSpPr>
          <p:sp>
            <p:nvSpPr>
              <p:cNvPr id="779" name="AutoShape 2"/>
              <p:cNvSpPr/>
              <p:nvPr/>
            </p:nvSpPr>
            <p:spPr>
              <a:xfrm>
                <a:off x="181080" y="928800"/>
                <a:ext cx="8748720" cy="470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0" name="AutoShape 7"/>
              <p:cNvSpPr/>
              <p:nvPr/>
            </p:nvSpPr>
            <p:spPr>
              <a:xfrm>
                <a:off x="214200" y="428760"/>
                <a:ext cx="4786560" cy="47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600" spc="-1" strike="noStrike">
                    <a:solidFill>
                      <a:srgbClr val="ffffff"/>
                    </a:solidFill>
                    <a:latin typeface="HY강B"/>
                  </a:rPr>
                  <a:t>생물적 노화의 양상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1" name="Text Box 25"/>
              <p:cNvSpPr/>
              <p:nvPr/>
            </p:nvSpPr>
            <p:spPr>
              <a:xfrm>
                <a:off x="366480" y="1000080"/>
                <a:ext cx="8563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노화를 신체구조 변화와 신체기능 변화로 구분 설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2" name="AutoShape 29"/>
            <p:cNvSpPr/>
            <p:nvPr/>
          </p:nvSpPr>
          <p:spPr>
            <a:xfrm>
              <a:off x="142920" y="1369800"/>
              <a:ext cx="8572680" cy="53784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신체구조의 변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그룹 5"/>
          <p:cNvGrpSpPr/>
          <p:nvPr/>
        </p:nvGrpSpPr>
        <p:grpSpPr>
          <a:xfrm>
            <a:off x="181080" y="142920"/>
            <a:ext cx="8820000" cy="6381720"/>
            <a:chOff x="181080" y="142920"/>
            <a:chExt cx="8820000" cy="6381720"/>
          </a:xfrm>
        </p:grpSpPr>
        <p:grpSp>
          <p:nvGrpSpPr>
            <p:cNvPr id="784" name="그룹 1"/>
            <p:cNvGrpSpPr/>
            <p:nvPr/>
          </p:nvGrpSpPr>
          <p:grpSpPr>
            <a:xfrm>
              <a:off x="181080" y="620640"/>
              <a:ext cx="8820000" cy="5904000"/>
              <a:chOff x="181080" y="620640"/>
              <a:chExt cx="8820000" cy="5904000"/>
            </a:xfrm>
          </p:grpSpPr>
          <p:sp>
            <p:nvSpPr>
              <p:cNvPr id="785" name="AutoShape 2"/>
              <p:cNvSpPr/>
              <p:nvPr/>
            </p:nvSpPr>
            <p:spPr>
              <a:xfrm>
                <a:off x="181080" y="620640"/>
                <a:ext cx="8820000" cy="59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786" name="Text Box 6"/>
              <p:cNvSpPr/>
              <p:nvPr/>
            </p:nvSpPr>
            <p:spPr>
              <a:xfrm>
                <a:off x="285840" y="785160"/>
                <a:ext cx="8643960" cy="543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기 중량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부터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 때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노인 신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%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장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반면 심장은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로 증가하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기능 역시 변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심장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혈관 경화로 심장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량 증가로 심박출량과 박동능력은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장판막 석회화로 각종 심장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혈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벽 비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력감소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혈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맥경화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뇌졸중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폐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탄성 및 용적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관지 확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기량 증가로 호흡기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소화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아결손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화효소 분비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위 근육 약화로 소화기능 저하되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장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융모 축소와 운동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장변형과 운동저하로 변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숙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각종 장 질환 위험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신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콩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질의 양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장혈관 경화로 기능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폐물 여과비율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로 신장질환 위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광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요도 기능 저하로 야뇨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사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대사율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휴식시 산소소모량</a:t>
                </a:r>
                <a:r>
                  <a:rPr b="0" lang="en-US" sz="13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탄수화물 대사 증가로 당뇨병 위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내분비계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종류에 따라 감소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증가하는 경우가 있으나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화와 함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호르몬 수용체 감수성 저하로 내분비 기능 저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성 및 생식기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폐경으로 생식능력 상실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은 음경 크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직도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기부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으로 성교능력 저하되지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 이상에서도 성적 관계 유지 가능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87" name="AutoShape 29"/>
            <p:cNvSpPr/>
            <p:nvPr/>
          </p:nvSpPr>
          <p:spPr>
            <a:xfrm>
              <a:off x="214200" y="14292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HY강B"/>
                </a:rPr>
                <a:t>신체기능의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41:11Z</dcterms:modified>
  <cp:revision>2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